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906-1793-4EDD-9355-85F83E4C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9F8-3D9F-431A-A5A6-0B1556A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84A-8EA6-442A-99A8-38C58F86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EBC-C665-4302-B944-6066966F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60B-9D2F-4BA5-AAE9-30FC5DD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540-C150-4E0B-86C4-773AA86D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DE7-75D8-471E-BABA-00A1531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6A4-DC5D-45E7-ACDD-0384E4AB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0EC-426D-4066-B485-808A1DB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246-DB8A-4FBC-80B7-5F6C6F5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8D6-2928-4F1A-BC0E-D1856BE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C9B-DAC7-4395-AE3B-48FED8E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AD3-018F-4D4B-82A0-70F7DCD2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6066000" cy="86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s and learning expectations are clear and consistent in instructional pract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 2      3       4      5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   Standards for learning have been broken down into clear and sequential learning steps to guide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    The curriculum and standards for learning are tightly aligned both vertically (from one grade level to the next) and horizontally (across the grade level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    Teachers effectively collaborate on a regular basis both vertically and horizontally about learning expectations, assessment, instructional practice and student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    Expectations for learning proficiency are clear and consistent in instructional pract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  Teachers make effective use of both formative and summative test data to plan for and to improve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  Teachers follow an appropriate pacing of the curriculum that is aligned to formative and summative assess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   Materials and resources are aligned to learning expectations and are effectively utilized for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 1      2      3       4      5       6       7      8      9      10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   Essential student vocabulary has been defined for each learning expec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  Lesson planning is standards-based and reflects clear learning objectives, congruent learning activities and a form of appropriate evaluation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  Teachers utilize student work products to assess instructional effect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   Instructional grouping practices are flexible and based on specific student learning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w)   1      2      3       4      5       6       7      8      9      10    (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28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Instructional Alignment Self-Assessment Ru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43:46Z</dcterms:created>
  <dc:creator>Lisa Waring</dc:creator>
  <dc:description/>
  <dc:language>en-US</dc:language>
  <cp:lastModifiedBy>Lisa Waring</cp:lastModifiedBy>
  <dcterms:modified xsi:type="dcterms:W3CDTF">2009-05-31T15:50:56Z</dcterms:modified>
  <cp:revision>12</cp:revision>
  <dc:subject/>
  <dc:title>Slide 1</dc:title>
</cp:coreProperties>
</file>